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F51-29C6-41D0-900B-D62B10268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8025-62BF-4B9B-BCC1-64833C3107FF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857-F47C-46FB-9625-56D4F052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097-81CB-487C-82FB-BAB91C50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A87-1928-44FC-81DF-ABBED5B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6BE-2695-465F-97EC-311BE5B4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B2C-627B-4933-BA27-5121D024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223F-205C-4396-A920-FB7C18C8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EA5-8970-473E-AF27-45AB13E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5002-12CF-4EC1-8B7A-4D2C7C7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FA8-E457-44E0-BD20-870329B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3D6E-57DE-4886-971D-AA66377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F1E-3734-4CE3-AFC9-7870777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7A3-7015-40E4-A7F7-E003608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2B4D-B493-4E5B-8214-E6CB6B7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DC8-4949-4E82-8D34-43BF58D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550D-71F3-4EF5-BB05-646299A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1B0-E806-4AA3-BA9F-B752A929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C38-093C-42E7-98C4-1151B989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AE1-6F92-4984-9884-3B4D248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E93-21DA-46C7-ACB2-3B9948B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140-762F-4396-A7E3-4BB710B4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CC8-A4B3-42E2-AD55-ADC3CC44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FE5-970E-40DF-8A54-18F4068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162-C3ED-4A6B-931A-3066B9C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0C4-D75B-461F-A52E-BD69CF9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1A18-3DA0-4238-B5EF-E92F10663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D83-8BB2-4E47-A326-1E2136D991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213372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zev školy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Číslo projektu: CZ.1.07/1.5.00/34.0953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zdělávací materiál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Zhotovení částečné snímatelné náhrady II. tří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zev materiálu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_32_INOVACE_ZSP.4.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um tvorby: 8. 11. 20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r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gr. Martina Nov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ace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Vzdělávací materiál využívá ICT při výuce a tím inovuje výuku praktického vyučování, zároveň motivuje a aktivuje žáky. Seznamuje žáky  s postupem zhotovení náhrady II. třídy – oboustranně zkrácený zubní oblouk v horní čelist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pracován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2" descr="C:\Users\Chalupna\Desktop\Nová složka\100_0931.JPG"/>
          <p:cNvPicPr/>
          <p:nvPr/>
        </p:nvPicPr>
        <p:blipFill>
          <a:blip r:embed="rId2"/>
          <a:stretch/>
        </p:blipFill>
        <p:spPr>
          <a:xfrm>
            <a:off x="5435640" y="3789360"/>
            <a:ext cx="2879640" cy="2441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Chalupna\Desktop\Nová složka\000_0005.JPG"/>
          <p:cNvPicPr/>
          <p:nvPr/>
        </p:nvPicPr>
        <p:blipFill>
          <a:blip r:embed="rId3"/>
          <a:stretch/>
        </p:blipFill>
        <p:spPr>
          <a:xfrm>
            <a:off x="1258920" y="4005360"/>
            <a:ext cx="2681280" cy="20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Chalupna\Desktop\Nová složka\000_0009.JPG"/>
          <p:cNvPicPr/>
          <p:nvPr/>
        </p:nvPicPr>
        <p:blipFill>
          <a:blip r:embed="rId4"/>
          <a:stretch/>
        </p:blipFill>
        <p:spPr>
          <a:xfrm>
            <a:off x="3203640" y="1484280"/>
            <a:ext cx="2374920" cy="20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2492280"/>
            <a:ext cx="147636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659640" y="1700280"/>
            <a:ext cx="1655640" cy="1112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940360" y="28702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ávěrečné leštění na leštič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63244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tová konstr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02136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dříznutí vtokové soustavy na rychlobrus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0400" y="150012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pískování konstr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6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3457440" cy="2962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elace base náhra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1004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hotovení retenčního prvku z drát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3789360"/>
            <a:ext cx="288720" cy="976320"/>
          </a:xfrm>
          <a:prstGeom prst="upArrow">
            <a:avLst>
              <a:gd name="adj1" fmla="val 50000"/>
              <a:gd name="adj2" fmla="val 8453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1721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modelovaná base náhrady z vosk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76899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tografie zhotovila, není-li uvedeno jinak, Mgr. Hana Chalupná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4360" y="1341360"/>
            <a:ext cx="7704000" cy="3743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Tahoma"/>
              </a:rPr>
              <a:t>Zhotovení částečné snímatelné náhrady II. třídy s drátěnými sponam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ahoma"/>
              </a:rPr>
              <a:t>Odlehčení model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oustranně zkrácený zubní oblo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Users\Chalupna\Desktop\Nová složka\000_0001.JPG"/>
          <p:cNvPicPr/>
          <p:nvPr/>
        </p:nvPicPr>
        <p:blipFill>
          <a:blip r:embed="rId2"/>
          <a:stretch/>
        </p:blipFill>
        <p:spPr>
          <a:xfrm>
            <a:off x="900000" y="2781360"/>
            <a:ext cx="2779920" cy="566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00720" y="2852640"/>
            <a:ext cx="3671640" cy="270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5000" y="546264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dlehčení base fóliovým voskem o síle 0,6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blování model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namočíme do v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dno dublovací kyvety připevníme mod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vorem v horním dílu kyvety zalijem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ehřátou dublovací hmotou (rozehřát na 80ºC, zchladit na 45º- 48º 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ztuhnutí dublovací hmoty, vyjmeme model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vety a formu vyplníme formovací hmotou Sherac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Zdublovaný licí model dáme vysušit do pece na 15 min. při 200ºC a po vyjmutí z pece model postříkáme vytvrzovacím sprej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blování model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Zástupný symbol pro obsah 3" descr="DSC01728.JPG"/>
          <p:cNvPicPr/>
          <p:nvPr/>
        </p:nvPicPr>
        <p:blipFill>
          <a:blip r:embed="rId2"/>
          <a:stretch/>
        </p:blipFill>
        <p:spPr>
          <a:xfrm>
            <a:off x="611280" y="1773360"/>
            <a:ext cx="338436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2" descr="vytvrzení.jpg"/>
          <p:cNvPicPr/>
          <p:nvPr/>
        </p:nvPicPr>
        <p:blipFill>
          <a:blip r:embed="rId3"/>
          <a:stretch/>
        </p:blipFill>
        <p:spPr>
          <a:xfrm>
            <a:off x="4932360" y="1773360"/>
            <a:ext cx="3456000" cy="213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Chalupna\Desktop\Nová složka\DSC_1701.JPG"/>
          <p:cNvPicPr/>
          <p:nvPr/>
        </p:nvPicPr>
        <p:blipFill>
          <a:blip r:embed="rId4"/>
          <a:stretch/>
        </p:blipFill>
        <p:spPr>
          <a:xfrm>
            <a:off x="1258920" y="4149720"/>
            <a:ext cx="2160720" cy="2487600"/>
          </a:xfrm>
          <a:prstGeom prst="rect">
            <a:avLst/>
          </a:prstGeom>
          <a:ln w="0">
            <a:noFill/>
          </a:ln>
        </p:spPr>
      </p:pic>
      <p:pic>
        <p:nvPicPr>
          <p:cNvPr id="103" name="Obrázek 4" descr="DSC01742.JPG"/>
          <p:cNvPicPr/>
          <p:nvPr/>
        </p:nvPicPr>
        <p:blipFill>
          <a:blip r:embed="rId5"/>
          <a:stretch/>
        </p:blipFill>
        <p:spPr>
          <a:xfrm>
            <a:off x="4932360" y="4149720"/>
            <a:ext cx="3527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elace konstrukce náhra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2" descr="C:\Users\Chalupna\Desktop\Nová složka\100_0911.JPG"/>
          <p:cNvPicPr/>
          <p:nvPr/>
        </p:nvPicPr>
        <p:blipFill>
          <a:blip r:embed="rId2"/>
          <a:stretch/>
        </p:blipFill>
        <p:spPr>
          <a:xfrm>
            <a:off x="611280" y="907920"/>
            <a:ext cx="2968560" cy="277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Chalupna\Desktop\Nová složka\100_0912.JPG"/>
          <p:cNvPicPr/>
          <p:nvPr/>
        </p:nvPicPr>
        <p:blipFill>
          <a:blip r:embed="rId3"/>
          <a:stretch/>
        </p:blipFill>
        <p:spPr>
          <a:xfrm>
            <a:off x="4788000" y="981000"/>
            <a:ext cx="3097080" cy="267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Chalupna\Desktop\Nová složka\100_0913.JPG"/>
          <p:cNvPicPr/>
          <p:nvPr/>
        </p:nvPicPr>
        <p:blipFill>
          <a:blip r:embed="rId4"/>
          <a:stretch/>
        </p:blipFill>
        <p:spPr>
          <a:xfrm>
            <a:off x="3276720" y="3716280"/>
            <a:ext cx="2841480" cy="282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Chalupna\Desktop\Nová složka\DSC_1744.JPG"/>
          <p:cNvPicPr/>
          <p:nvPr/>
        </p:nvPicPr>
        <p:blipFill>
          <a:blip r:embed="rId5"/>
          <a:stretch/>
        </p:blipFill>
        <p:spPr>
          <a:xfrm>
            <a:off x="826920" y="4221000"/>
            <a:ext cx="2160720" cy="134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Chalupna\Desktop\Nová složka\DSC_1743.JPG"/>
          <p:cNvPicPr/>
          <p:nvPr/>
        </p:nvPicPr>
        <p:blipFill>
          <a:blip r:embed="rId6"/>
          <a:stretch/>
        </p:blipFill>
        <p:spPr>
          <a:xfrm>
            <a:off x="6443640" y="4221000"/>
            <a:ext cx="206712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9954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aptace rastrovaného vosku o síle 0,6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30192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elace třmenu fóliovým voskem o síle 0,3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Připevnění retence a vytvoření schůdku mezi basí a skeletovou konstrukcí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ačepování a zatmelen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pečlivě přilepíme k podložce voske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y se nám při zalévání formovací hmotou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volnily bubli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C:\Users\Chalupna\Desktop\Nová složka\100_0915.JPG"/>
          <p:cNvPicPr/>
          <p:nvPr/>
        </p:nvPicPr>
        <p:blipFill>
          <a:blip r:embed="rId2"/>
          <a:stretch/>
        </p:blipFill>
        <p:spPr>
          <a:xfrm>
            <a:off x="684360" y="3068640"/>
            <a:ext cx="2199960" cy="495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Chalupna\Desktop\Nová složka\000_0004.JPG"/>
          <p:cNvPicPr/>
          <p:nvPr/>
        </p:nvPicPr>
        <p:blipFill>
          <a:blip r:embed="rId3"/>
          <a:stretch/>
        </p:blipFill>
        <p:spPr>
          <a:xfrm>
            <a:off x="3995640" y="3141720"/>
            <a:ext cx="198756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Chalupna\Desktop\Nová složka\DSC_1686.JPG"/>
          <p:cNvPicPr/>
          <p:nvPr/>
        </p:nvPicPr>
        <p:blipFill>
          <a:blip r:embed="rId4"/>
          <a:stretch/>
        </p:blipFill>
        <p:spPr>
          <a:xfrm>
            <a:off x="6300720" y="4581360"/>
            <a:ext cx="22845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licí technika foto\P1030513.JPG"/>
          <p:cNvPicPr/>
          <p:nvPr/>
        </p:nvPicPr>
        <p:blipFill>
          <a:blip r:embed="rId5"/>
          <a:stretch/>
        </p:blipFill>
        <p:spPr>
          <a:xfrm>
            <a:off x="7740720" y="260280"/>
            <a:ext cx="124452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5533920"/>
            <a:ext cx="46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řipojení licí soustavy - licí čep o síle 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2725560"/>
            <a:ext cx="46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cí forma před odstraněním manž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61815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cí forma po odstranění manžety a licí prohlub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ypalování formy a odlit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stavení pece na vypalovací teplo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-Cr slitiny - 900°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C:\Users\Chalupna\Desktop\FOTKY FIXNÍ MŮSTKY\DSCF3926.JPG"/>
          <p:cNvPicPr/>
          <p:nvPr/>
        </p:nvPicPr>
        <p:blipFill>
          <a:blip r:embed="rId2"/>
          <a:stretch/>
        </p:blipFill>
        <p:spPr>
          <a:xfrm>
            <a:off x="539640" y="3933720"/>
            <a:ext cx="2808360" cy="254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Chalupna\Desktop\FOTKY FIXNÍ MŮSTKY\DSCF3928.JPG"/>
          <p:cNvPicPr/>
          <p:nvPr/>
        </p:nvPicPr>
        <p:blipFill>
          <a:blip r:embed="rId3"/>
          <a:stretch/>
        </p:blipFill>
        <p:spPr>
          <a:xfrm>
            <a:off x="3780000" y="3860640"/>
            <a:ext cx="3025440" cy="2637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Chalupna\Desktop\Přátelé\IMG_9977.JPG"/>
          <p:cNvPicPr/>
          <p:nvPr/>
        </p:nvPicPr>
        <p:blipFill>
          <a:blip r:embed="rId4"/>
          <a:stretch/>
        </p:blipFill>
        <p:spPr>
          <a:xfrm>
            <a:off x="6877080" y="2133720"/>
            <a:ext cx="1871640" cy="167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8960" y="33717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palovací p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38080" y="33735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cí přístr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6840" y="2435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dlití a oprac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C:\Users\Chalupna\Desktop\Nová složka\100_0919.JPG"/>
          <p:cNvPicPr/>
          <p:nvPr/>
        </p:nvPicPr>
        <p:blipFill>
          <a:blip r:embed="rId2"/>
          <a:stretch/>
        </p:blipFill>
        <p:spPr>
          <a:xfrm>
            <a:off x="900000" y="2852640"/>
            <a:ext cx="3168720" cy="347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Chalupna\Desktop\Nová složka\100_0926.JPG"/>
          <p:cNvPicPr/>
          <p:nvPr/>
        </p:nvPicPr>
        <p:blipFill>
          <a:blip r:embed="rId3"/>
          <a:stretch/>
        </p:blipFill>
        <p:spPr>
          <a:xfrm>
            <a:off x="4788000" y="2852640"/>
            <a:ext cx="3097080" cy="347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692280"/>
            <a:ext cx="2051280" cy="172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78360" y="193356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ískovací příst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61801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pískovaná konstr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2-05T20:48:09Z</dcterms:modified>
  <cp:revision>75</cp:revision>
  <dc:subject/>
  <dc:title>Snímek 1</dc:title>
</cp:coreProperties>
</file>